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28B-307C-479C-B086-833E06B3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002-A93F-434A-9C3A-E69DC085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EBF-0137-42C0-8131-7AD959AE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919-38F1-4C00-A27B-FA52939D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4CC7-7D89-4731-A98B-E528F4D1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433-BB1E-4912-B80E-1724391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E9BE-DA1B-469A-B8AD-7BF16F0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3B7-B6ED-4950-B24B-C97F10C5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881A-50D4-40DF-8054-F7D663F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F288-1676-4B85-9126-19BCD54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7057-A1A0-4504-B344-BCB7F27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F95-B8D0-4746-9D93-4B16F71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7D1D-E03A-4722-9200-C7F6B83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6B4A-C2BC-4CBD-ABB3-B22557D1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5066-23A2-48AF-A52E-EBC76761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2EEF-DE48-4DB0-9FFE-C455397B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3AAB-6902-4688-9F3F-01AF4691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8F98-7803-4D9C-B8DE-7AA40652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7BFF-E0F9-4A92-8699-53DCE562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5AE5-A6FD-4836-93CA-12F7CCFD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96E0-0B39-4F59-A31B-7E0710A5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AF231-9C03-425E-AD67-74B00C8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F0B-992D-4F48-ADEB-12367CC3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92F8-82FA-488F-ABA1-0C355EA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BBC4-478D-4CDA-963D-448E894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25142-D482-4FD4-ACF4-5B36C0D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2DDB-020D-4E00-AE2D-7DC65432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79C1-965C-4CB5-BE1E-7F3D0A4C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E13D-6FEA-461A-83D6-F9C84F53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358A-1448-46F2-8664-C81831BA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F334-5B89-42EA-AB5A-FCCDC4F7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CB445-1F56-480C-9C5A-4A15E1E7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F9F8-DE37-44EA-A042-9E85D669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ED0-37A8-4879-BB5A-9D9F9A8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EEB1-9FA4-4556-89FD-CBD144DA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A3B0-0115-4031-935B-D2400137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1DB5B-B4C8-4303-AB1B-016338E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40C11-8EC9-4D36-9FDE-5C3F4B2A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EA1A-2C07-4D3E-A7E8-D89E368B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05BC-9F06-4E99-BA0B-99021EEB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80FD-9F70-44E9-B718-2922F0B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8F11-DEEB-481E-8D13-AAC4B622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C5F77-19D7-4369-A868-77D94B42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77A-161C-4812-8AEC-B4BE7D4E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041-92D0-4EA6-B4DE-A772C09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C81-54E7-437F-B26E-13264D6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714-032B-411C-BF08-05B2124B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57A-B8B1-463A-A61C-20B41C36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1C28-4EDC-47B5-9E4B-5204E4409A3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12EA-3A61-42DF-98DD-E88677B2B6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AEF2-9D42-4108-A7DD-0E5B0009D4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915-3242-4EB6-8C28-BDA8A36BBC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4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5,9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8,6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09,4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42,55 млн.руб. (местный бюджет – 134,59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7,96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3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- 9,4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0,86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2,0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4,3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ДЕЯТЕЛЬНОСТИ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6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 (по состоянию на 01.10.201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8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646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8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1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5,91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1,6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 по состоянию на 01.10.20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09,4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1-01T04:56:16Z</dcterms:modified>
  <cp:revision>83</cp:revision>
  <dc:subject/>
  <dc:title>Структура собственных доходов на 2016 год бюджета Дальнереченского городского округа</dc:title>
</cp:coreProperties>
</file>